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064-39F6-450C-AB17-9DB97936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8DB-D5A8-4B23-80D9-5D878E7C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A1D-6163-4F6A-B9D7-826052B4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BFB-1435-4ECC-BEFB-358EF523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FF5-53C7-4C27-A7EA-694D2263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232-959A-40F3-9CEC-D9B03DC3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0CE-8D99-4CAB-B18C-63587ACE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520-C306-4483-9FD3-C305F4C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5B2-9BBD-4DB2-A294-C30EFDA4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FFB-2E8E-4BF3-A970-F336658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D93-F69F-460A-9F67-17BFFD0A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809-8E4D-4C65-81B9-2BC0388A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70E5-0058-4259-B172-472126AB5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3086280" cy="787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3352680"/>
            <a:ext cx="603432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763120" cy="121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60339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729400" cy="67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66294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746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26:11Z</dcterms:created>
  <dc:creator>Graham</dc:creator>
  <dc:description/>
  <dc:language>en-US</dc:language>
  <cp:lastModifiedBy>Graham</cp:lastModifiedBy>
  <dcterms:modified xsi:type="dcterms:W3CDTF">2012-09-30T18:26:19Z</dcterms:modified>
  <cp:revision>1</cp:revision>
  <dc:subject/>
  <dc:title>Slide 1</dc:title>
</cp:coreProperties>
</file>